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4CD7-511F-42E3-A152-7682AF24A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CD8D-B06A-41D0-8C93-453D77562C3C}" type="slidenum">
              <a:rPr b="0" lang="en-US" sz="1200" spc="-1" strike="noStrike">
                <a:solidFill>
                  <a:srgbClr val="1a1a1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09368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F85-6E23-44A5-AE5F-EF4A44BB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4E8-CFEA-4B7D-ADC7-DF233212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572A0-9DD1-46B5-AFC0-6241CCBD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97837-6BCB-4EEC-BB21-A42DDD91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9C171-A805-495D-86B6-4B15479F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A9B36-2709-4735-9534-FF60EF74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D0905-D73C-4043-90CE-06BCF3DA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A9CB8-A829-42B9-BFFA-691995FD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C0F79-51A9-4044-B311-32449418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F685D-453C-462C-A289-972975B9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7AE34-2293-41F4-9CB0-57E8E8D7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12E56-E849-4763-A049-770E2538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131-207D-4461-BFAE-553DD35C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C30EA-C84A-4FE6-A0EA-E556C3AF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B87D4-188D-405F-A81D-FFB26560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1C8B7-20E7-4F77-9014-1FEAFF73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EDF95-FDB9-4156-8993-09618CE9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FCF5E-C2F4-47D2-B9B4-93E6077C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D114A-4457-4298-8669-0ACC5344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12303-7C9E-4EF3-93FA-D2B7A0BC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7BAEF-C4B9-4E12-86DF-496CA5AD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E173A-6D64-4E48-86D0-47066295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F1400-891A-473A-8747-5411C594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A5E-B2B2-4FF5-BFDF-6347D512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DE986-A55A-43A1-A74A-244376A3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4140B-8BBF-44CA-9930-47856943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15F01-B384-4486-BB9A-F75F62D7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77E05-8C5D-49C9-9DAC-798BF833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0F247-CBF0-40EA-84D9-17D342B9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0BC0E-587A-4873-B9AD-E8300823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F959D-267F-43C2-8A45-27D03AED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6D1D9-9C0B-4CEB-A4EF-7CB92424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644B1-6778-4313-A2DA-1E4AD092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0A72F-E5DB-4F2D-B843-6C467CCC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A5BD7-A7BD-4DBF-95AF-8076CB50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808BB-39BE-41BA-AF88-01FB008E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8C07E-671B-4EB8-9E21-04E251BB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C5F64-1D28-4B6D-A514-03D274C6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125B7-EFDF-443B-A480-2BC4498D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BFC6D-6D24-4C12-9C68-297831AA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4D07D-425A-431F-9A68-4C49BE36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8B65A-08A5-44F9-AC25-41A56927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2C5A2-CC75-4A3A-839C-171AFF68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ED3CC-4407-4666-93A0-ADCA1BB0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A22DD-7793-4D8C-95ED-A734BB70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73615-ED6B-45DA-AA72-1610CD04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6B650-FDED-4D8E-87E6-C7FFF5D7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2AA48-8854-45A5-B4E1-6E7974AE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701BF-245B-416C-9786-033D20DA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61079-71BC-4125-A553-76737B93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5F81F-D907-4C2A-BBEF-61CA89FD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8B881-0C27-460C-87C0-CCEF99CF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48DE0-2A76-412D-9DA3-D02F35EA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556AE-86EC-4F95-A76D-781CA6EF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842A9-9B8D-4A2E-9EA2-CA42B15F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433A7-0220-4663-8A98-7DF40FBB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48902-0F26-4F4A-A8A1-7DB77179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B6EE7-2D0D-47A1-97F0-6246D0F6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5C9DE-1614-4C7D-8946-3C67127B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5DCBD-399D-4443-B9F0-D4ED64E0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B0CA2-AD27-4AD1-BB3F-238D57A6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6ECA8-7CEF-433C-A336-CBE987D8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FC141-E8F4-437E-97FC-0FA56575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B9E72-7BD8-4757-B8E9-BD21FFEB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11972-AC94-4116-8498-BA94A63D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D6BBF-3B7C-4C68-8B73-D79C9C90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C7904-B549-4767-B72E-7A0DE2DA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864D7-AAB5-41D7-8379-69CC87C0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7EC38-C32A-4408-8D01-E01D4DAB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6B5CF-313D-4EF0-AF22-23505CE3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5C6ED-291E-4035-9DB3-7D7A0244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D19AA-1517-48F1-98E2-91F82142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5296F-C14D-40B4-9471-D5BFD3BC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610D6-746E-4F78-9E09-1804CC6D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C8DF0-1463-40E0-A9C7-1F39D012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B6BC4-9FD3-4F33-9963-15E1B894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0479C-6523-4605-8EA1-400A0248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FE795-6BEB-4E81-B4A3-6BF07F6D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0288A-370B-45B9-9B49-7C54BA01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7D550-5370-44D0-AB32-050E41C1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967C4-0139-41A0-9A12-32F0C759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BC066-3F3E-4088-84E8-47618CB1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B4C22-385A-4D82-81B9-55B6185B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B345A-4680-4A4F-A109-9A888491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F31C4-CB17-448C-A0DC-FABB59DA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D4011-5DC7-4F0E-B4A7-7D144338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3D4DA-8BF6-444E-9B27-2B5E6BEA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E8BEF-B73E-4CF0-A8FC-E209DB13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6E126-4707-4FB4-A455-0A6DC49D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B1E0E-E660-46F6-A83C-2D84A169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60B2B-72BD-4EBF-BE38-63EFF8FA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ABC5A-F624-4CF5-BE58-D76702C2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4FB-8EEE-476A-97E6-660129CC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4FC57-DFB4-4E45-9A35-4CE5A3FB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10061-EDF5-4DD9-88D9-350C2D70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BBFF5-CC41-4E1F-B8C0-5CEAE006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A2968-F132-44D0-9724-71E7F45D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C1357-F3CA-4F52-A957-039B2E15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D5422-7D79-4CF6-BA69-8DE02208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B2570-01DB-42E7-B149-568419CB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3EA837-095F-49C2-A052-67C7F00E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DF27D-5E25-4E09-AA78-1EF86772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F7E24-96CF-4322-A4FC-D73FFD0A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71763-75CB-4603-9F92-0A874AEF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7EB9F-68D3-448C-B325-9EC1202F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DEC9D-57D7-408D-828C-E4EE3F78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FEA1F-ADCE-4551-941C-2858243D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ACE11-B89F-484E-960C-FFC387C8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D232F5-818E-41ED-85F7-B15C42CD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DE153-A5AE-4E2B-BA19-9C8957AB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83D-CF99-4E62-A79B-41E4CCBD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306-DA3C-4E26-B2B5-2559C252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E8DD-71FD-4758-AEFD-115153D9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37E-6CA0-48E8-8F23-C4A2DCED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F6C2-E7B7-4E48-B9C2-554503ED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01B6-616F-43D0-8860-6F17CCEF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E7EC-984C-48C4-B56B-709ABD2F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6A35-03FF-4EC1-9631-20CE54F8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792E-79B5-48B6-978C-0A4C1056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8019-82FC-4783-A3AE-F3AC6FC7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263C-0EF8-459B-AFBB-7DC363E6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4EB0-1291-4D7B-9BB2-420A18C2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B645-4C24-4C54-BAE2-479A2534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4570-04C4-4F3F-9333-284F3770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FAE-49F8-4368-8431-6E0C8C04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3853-BC9F-430B-AB2D-6FBBB777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544F2-847B-484C-9F56-D7206BC6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C78DC-D091-482D-847A-39CA48F1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C3885-ABF2-40B8-A3C8-0B7CF7D7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27618-27E0-49D1-BB6C-1C6B15E2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D531-181B-4ACC-B220-3978C39A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A4725-A4D6-4EFF-A153-C0D26DF3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FD98-8227-41EC-B618-48CD0352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9B9BA-6DD3-4EC9-9E66-5CC2C126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4E24A-F68F-47E8-9790-BF47BCBE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C80-612A-434D-8B74-3A0482B1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595E9-D9D6-40E8-8C6A-25917F1E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80A2-6F8C-4CE0-8088-852BD56A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26689-977E-4450-B605-EB510047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077C9-AE8B-403B-AA7D-484D7F54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5B635-02E3-48CF-85EF-117CF83A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216E6-94B6-440D-9A3E-9A9EF93E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A754B-C360-458B-AD93-B8CA1BBD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F54BD-1C79-417A-A9C1-DAD0F63E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B0266-68BA-48D1-8302-3DAA3E2F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CD10A-D8D4-4CA0-AC90-DDD16AAE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101-9823-465C-B127-6B111E70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6F489-3D5E-4B88-885B-703167D2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B2765-2A40-4994-B327-5696F4C2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02A0E-A6C8-4C60-9890-A0BC2823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93F5-F431-4DE8-A66F-794691FF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E6E6F-F145-4422-AF78-5C3A07C2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79C4F-D65D-4D5D-B394-9925239A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59813-39E1-43DA-93DD-C853B84F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744EF-AF42-43B4-9102-0AB75699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FC8E0-80ED-4994-9021-B54B42C0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6626E-04A4-4B94-861A-01ABDE48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835-DC22-4C8F-9166-227F32ED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44FB1-B7D6-4A9C-9A7F-19C343DB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BABAF-7B0D-49F3-8686-5B1458FB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8B5E9-DA00-4019-9310-3D67DA55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E9A9D-AA63-41E7-B37A-D486B8C1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AD96F-488A-402A-8B00-F59FF470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D2A3A-B3D4-4896-BB0A-0788A8A7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B17E0-627A-4871-8069-32DEB5BE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B8C8A-C137-4D8B-AB1F-91EB9438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8664A-667D-4472-BBB1-7B76CE27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B246A-0792-413D-AB6A-6415AD3C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international-pain-school.org/" TargetMode="Externa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9598-F82A-4334-A042-4C240264AB5B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5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49C7-F82D-468A-8458-B057A08E1A4B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DF72-8BD4-44F0-87E8-6E9F387493E2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8590-4650-467B-AD25-A705220BBA4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F315-FADF-42EF-98B4-5C014551C79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773C-4572-4301-856A-2E6BF3E08852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501E-22CC-4642-83AA-637D498F5126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0262-8880-4D0F-9AEC-1B814AA4FFD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ounded Rectangle 3"/>
          <p:cNvSpPr/>
          <p:nvPr/>
        </p:nvSpPr>
        <p:spPr>
          <a:xfrm rot="5400000">
            <a:off x="7739280" y="-27720"/>
            <a:ext cx="43524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5D05-6006-4B17-984F-DDD876259E7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858585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858585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858585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5" name="Rounded Rectangle 2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6" name="TextBox 3"/>
          <p:cNvSpPr/>
          <p:nvPr/>
        </p:nvSpPr>
        <p:spPr>
          <a:xfrm>
            <a:off x="777960" y="4487760"/>
            <a:ext cx="75866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Open Sans"/>
              </a:rPr>
              <a:t>More lectures and further information can be found on our project website.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 u="sng">
                <a:solidFill>
                  <a:srgbClr val="008bcb"/>
                </a:solidFill>
                <a:uFillTx/>
                <a:latin typeface="Open Sans"/>
                <a:hlinkClick r:id="rId2"/>
              </a:rPr>
              <a:t>www.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Open Sans"/>
              </a:rPr>
              <a:t>© 2013 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1a1a1a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1a1a1a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333333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3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4ADB-24FA-4841-B263-F16561B46F97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DD9C-5D4F-4806-8B05-6A8A79A806AF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C9D7-5A9A-47BD-8387-9F50DE809A8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81A4-9643-4EDE-A298-06F4276FFAE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1CB7-8301-4E12-9999-466BFA3042ED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Integration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can be a part of symptom management from the time of diagnosi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there are no curative options, focus medications and treatments on comfort only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osing of pain medication, such as opioids, has no upper limit-especially at then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reat all aspects of the patient as their greatest suffering may not be from physical pai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Remember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only requires attention to what the patient needs, regular re-assessment, and access to medication.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igh-quality palliative care does not require any high-tech materials or equipmen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one can provide palliative care to those in need, especially at the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45720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Open Sans Semibold"/>
              </a:rPr>
              <a:t>This talk was originally prepared by: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468360" y="1676520"/>
            <a:ext cx="84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Jamie Laubisch MD &amp; Justin Baker MD</a:t>
            </a:r>
            <a:endParaRPr b="0" lang="en-US" sz="36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Memphis, USA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84360" y="1266840"/>
          <a:ext cx="7696080" cy="4983120"/>
        </p:xfrm>
        <a:graphic>
          <a:graphicData uri="http://schemas.openxmlformats.org/drawingml/2006/table">
            <a:tbl>
              <a:tblPr/>
              <a:tblGrid>
                <a:gridCol w="4260600"/>
                <a:gridCol w="3435480"/>
              </a:tblGrid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ology and pathophysiology of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ilesh Patel, PhD, Keny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of pain &amp;  taking a pain histor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Yohannes Woubished, M.D, Addis Ababa, Ethiop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pharmacology of analgesic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non-pharmacological treatment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Ramani Vijayan, M.D. Kuala Lumpur, Malays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ominique Fletcher, M.D, Garches &amp; Xavier Lassalle, RN, MSF, Paris, Franc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– high treatment technology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arinder Rawal, M.D. PhD, FRCA(Hon), Orebro, Swede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Cancer pain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Barbara Kleinmann, MD, Freiburg, German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cer pain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Doralina Anghelescu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liative Car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-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D, Helsinki &amp; Aki Hietaharju,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.D., Helsinki &amp; Aki Hietaharju, M.D., 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logical aspects of managing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Etleva Gjoni, Germany 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Management Challenge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ebra Gordon, RN, DNP, FAAN, Seattle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Open Sans Semibold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pic>
        <p:nvPicPr>
          <p:cNvPr id="834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54920" cy="33256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919440" y="19810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  <a:ea typeface="Arial"/>
              </a:rPr>
              <a:t>The project is supported by these organizations: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53370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Open Sans"/>
              </a:rPr>
              <a:t>Type in the name of your institution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76000" y="4149720"/>
            <a:ext cx="680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Open Sans"/>
              </a:rPr>
              <a:t>Type in your name</a:t>
            </a: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476000" y="3284280"/>
            <a:ext cx="68007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Open Sans"/>
              </a:rPr>
              <a:t>Palliative Care</a:t>
            </a:r>
            <a:endParaRPr b="0" lang="en-US" sz="46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pic>
        <p:nvPicPr>
          <p:cNvPr id="797" name="Picture 6" descr="http://1.bp.blogspot.com/_f2I8sVbYok0/TCAm4wO8HrI/AAAAAAAACCQ/w-9D41FN3OQ/s1600/holding+hands.jpg"/>
          <p:cNvPicPr/>
          <p:nvPr/>
        </p:nvPicPr>
        <p:blipFill>
          <a:blip r:embed="rId1"/>
          <a:srcRect l="5915" t="5843" r="6089" b="6326"/>
          <a:stretch/>
        </p:blipFill>
        <p:spPr>
          <a:xfrm>
            <a:off x="-66600" y="0"/>
            <a:ext cx="9210600" cy="6875640"/>
          </a:xfrm>
          <a:prstGeom prst="rect">
            <a:avLst/>
          </a:prstGeom>
          <a:ln w="0">
            <a:noFill/>
          </a:ln>
        </p:spPr>
      </p:pic>
      <p:sp>
        <p:nvSpPr>
          <p:cNvPr id="79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7960" y="2301840"/>
            <a:ext cx="7586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tive total care of the patient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gins at diagnosis, and continues regardless of whether or not a patient receives treatment directed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t the diseas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alth providers must evaluate and alleviate a child's physical, psychological, and social distres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quires a broad interdisciplinary approa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77960" y="1368000"/>
            <a:ext cx="75866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Open Sans Semibold"/>
              </a:rPr>
              <a:t>WHO definition of palliative care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“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art and science of patient and family-centered care aimed at attending to suffering, promoting healing and improving quality of life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”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goal is to add life to the patient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’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 years, not simply years to the their life 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y is it so important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762120" y="114300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e cannot cure or save everyone and we will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ll die someday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resources are limited or unavailable,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 patient should have the benefit of symptom management, especially at the end of lif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Opioids should be available for all patients to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lp alleviate pain and suffering, although not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rrently the cas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does not require high-tech medicine, but may be achieved anywhere with education and dedication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Aspects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rovide comf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Foster interpersonal relationship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u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reavement car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Totality of Personhood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77960" y="5867280"/>
            <a:ext cx="758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Open Sans"/>
              </a:rPr>
              <a:t>Goal: to attend to suffering, of any kind, and improve quality of life</a:t>
            </a:r>
            <a:endParaRPr b="0" lang="en-US" sz="1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3352680" y="3352680"/>
            <a:ext cx="2210040" cy="2210040"/>
          </a:xfrm>
          <a:prstGeom prst="ellipse">
            <a:avLst/>
          </a:prstGeom>
          <a:solidFill>
            <a:srgbClr val="df00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1" name="Oval 3"/>
          <p:cNvSpPr/>
          <p:nvPr/>
        </p:nvSpPr>
        <p:spPr>
          <a:xfrm>
            <a:off x="2514600" y="1905120"/>
            <a:ext cx="2209680" cy="2209680"/>
          </a:xfrm>
          <a:prstGeom prst="ellipse">
            <a:avLst/>
          </a:prstGeom>
          <a:solidFill>
            <a:srgbClr val="604a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4191120" y="1905120"/>
            <a:ext cx="2209680" cy="2209680"/>
          </a:xfrm>
          <a:prstGeom prst="ellipse">
            <a:avLst/>
          </a:prstGeom>
          <a:solidFill>
            <a:srgbClr val="008b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990720" y="1721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lig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990720" y="515016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et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553080" y="17236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lture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248520" y="515016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ducat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3048120" y="27954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od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4686480" y="27954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Mind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3924360" y="424296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Barriers to High Quality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erson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ly difficult, taboos, resisting chang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ystem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cess to services, reimbursement, fragmentation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Quality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eficient education, lack of outcomes resear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echnic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Lack of appropriate evaluation tool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21:01:03Z</dcterms:created>
  <dc:creator>SJCRH</dc:creator>
  <dc:description/>
  <dc:language>en-US</dc:language>
  <cp:lastModifiedBy>ruth</cp:lastModifiedBy>
  <dcterms:modified xsi:type="dcterms:W3CDTF">2015-06-15T09:50:54Z</dcterms:modified>
  <cp:revision>37</cp:revision>
  <dc:subject/>
  <dc:title>Palliative Care</dc:title>
</cp:coreProperties>
</file>